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649-01EF-45E4-A287-DE1FEE46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416-6FF8-4AAD-9605-A267B4C4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DB56-F732-4A2B-BA64-A06E2286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531D-2508-4989-B940-88FD900C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DD74-6103-4A39-B258-7D7C5637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6F5A-E1DB-4770-BB51-FC476C90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7EE7-177C-4BFE-8A21-E5CACF5C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6AEF-0810-4366-96B0-C19FCE9F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6CE9-B732-424A-A909-A1477EBB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9555-F44A-4B66-AB53-D48CDC98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01D2-6C5C-4F34-A557-F45911EB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9B92-B4D8-4BF1-9FD1-CE0CE7BB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B9C7-4A6D-47B0-8EF7-1238B93C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4BCC-AE0C-423E-9B97-5577018B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8792-31A1-466A-9CB2-331FC420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0F1A-5FBD-40F6-AD3B-5BA72700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7476-4807-4153-BAE8-B78581C8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D48-CEC7-4D71-A8BF-1A99FE8C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9B3-A176-40CA-BB63-C903EC5F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809-7396-46F0-BA87-9A5A7919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D28-38D9-4D8F-88A5-5C3DC8A0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68B-6C95-499A-9BEB-0D6C665B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814B-0A55-4A41-9361-320A435C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8F4-4B64-4721-8ABF-4BE888F8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6758-B8C0-4259-B526-B107DAD363A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4815-5361-4C2C-9A7C-613AEFBC2B0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Тайна воды…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: студентка 143 группы Сенькина Анна Леонидов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Этапы и сроки проведения проект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этап: </a:t>
            </a:r>
            <a:r>
              <a:rPr b="0" lang="ru-RU" sz="4100" spc="-1" strike="noStrike">
                <a:solidFill>
                  <a:srgbClr val="ffffff"/>
                </a:solidFill>
                <a:latin typeface="Tahoma"/>
              </a:rPr>
              <a:t>Знакомство с научными статьями и  исследованиями по данной теме.(2 часа). 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10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этап: </a:t>
            </a:r>
            <a:r>
              <a:rPr b="0" lang="ru-RU" sz="4100" spc="-1" strike="noStrike">
                <a:solidFill>
                  <a:srgbClr val="ffffff"/>
                </a:solidFill>
                <a:latin typeface="Tahoma"/>
              </a:rPr>
              <a:t>Демонстрация самостоятельной деятельности учащихся.(1 час).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кружево будто одеты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Деревья, кусты, провода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кажется сказкою это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 все это просто в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езбрежная ширь океана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тихая заводь пруда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аскад водопада и брызги фонтана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 в сущности это 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ысокие волны вздымая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ушует морская вода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топит, и губит, играя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ольшие морские су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от белым легли покрывалом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а землю родную снега…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 время придет – все растает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будет простая 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 рабо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пп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ый предме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ни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иеся 10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сновополагающий вопрос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знает уникума планеты Земл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блемные вопрос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сокрыто в замерзшей вод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воду называют «жидким золотом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камень обливается пот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чебные вопро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ми важнейшими физическими свойствами обладает во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му даже в лютую зиму вода в водоемах не промерзает до дна? Какое это имеет значение для живой природ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чего сделан лед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снежинк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 отличаются снежинки и кристаллы ль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связаны пар и во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насыщенный пар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идактические цел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ть понятие об атмосферной и относительной влажности воздуха и их определений, а так же познакомиться с составом атмосферы Земли и Солнечной сист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бщить, проанализировать и расширить знания учащихся о воде, ее роли в живой и неживой природе, в жизни чело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ть представление о характерных признаках зимы в неживой природ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питывать бережное отношение к природе; прививать любовь к русской природ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вать видение прекрасного во всём, что нас окружа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езультаты представления исследовани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зентация: «Что сокрыто в замерзшей воде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бликация: Почему вода – «жидкое золото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2:56:26Z</dcterms:created>
  <dc:creator>26091</dc:creator>
  <dc:description/>
  <dc:language>en-US</dc:language>
  <cp:lastModifiedBy>26091</cp:lastModifiedBy>
  <dcterms:modified xsi:type="dcterms:W3CDTF">2010-06-03T13:44:55Z</dcterms:modified>
  <cp:revision>24</cp:revision>
  <dc:subject/>
  <dc:title>Вода – это жизнь!</dc:title>
</cp:coreProperties>
</file>